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C584-C659-4534-8968-ECB9273F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5EB-44BF-4491-AEC6-A186B2E4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446-28F2-43FB-97A1-DEDDD84B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D2C-B010-49BA-9735-BC4AC61E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DCCB-1024-4EF7-9E8A-EAAD19F1E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07A1-6D64-4EF5-91CB-E5E5BF5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F8945-FDF8-42F4-92DB-813AA305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6DE6-B3ED-4B56-8BF0-AC6C74E5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8EF8-0DD2-4C21-8BC4-1803E5B3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DD86-A6EB-4A81-A665-0E7FFD66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5363-7034-48E8-8C02-21A9EFD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A9F-5D0F-4343-82A6-EF222C82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9602-262F-480F-895F-E015CED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32D2-7279-44EB-8ED1-64C79FB7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49DB-0E25-4D49-9B74-B2D02157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C981-5D54-4F95-A386-9FC181C8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37DC-0D94-431A-B223-B094AC86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2641-B1AD-4778-92CB-D5589939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A58F-A5FE-456B-B4F1-0363AEE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3F45-DCA7-4A0A-A05A-644FC82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F67-99D3-451D-9924-C6317527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ED1F-C17B-4A61-A800-FFDB807A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010-D1F3-477E-8C69-E537083F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8056-B19A-4B5B-964F-40D66D9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F5DD-EB40-4B3E-9AA2-56AECF717EEC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FE90-40DE-4741-8957-93B355A67ECD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Sistema Nacional de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Prevenção, Preparação e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esposta Rápida a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Emergências Ambientais (P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338360"/>
            <a:ext cx="7239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Julho 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eparação é a Cha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preciso estar preparado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evenir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ponder rapidament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dentificar as situações de emergência antes que transformem-se em desast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preparação é a única ação que não depende de fatos extern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reparação = treinamento, simulação, compartilhar inform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97600" y="5738760"/>
          <a:ext cx="35780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0" y="5738760"/>
                    <a:ext cx="3578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Cataguazes de Papel / 200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Isso não teria acontecido se aqueles pescadores tivessem sido ouvidos e levados em consideraçã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arina Silva, Ministra do Meio Amb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Vamos sair daqui porque essa sujeira toda vai é descer rio abaix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orador a jusante da lagoa de armazenamento de residuos da Cataguazes de Pap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Um Futuro Possível a Curto Praz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opulações em áreas de risco: informados, preparados, cobrando e colaborando com o poder público, participando das ações locais de prevenção e resposta ráp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petências e Competições a Resolv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ISNAMA: referência desde 1981, sem instrumentos práticos. Iniciativas dispersas no IBAMA e no M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Órgãos estaduais de meio ambiente: preparo empírico mas disper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unicípios: defesa civil, empresas e suas instal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tores recentes: ANA, SRH, CNRH, CERHs, Condema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Caminho: enfoques orientados para solu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incipais tipos de emerg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ransporte e Transbordo: probabilidade alt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in situ: probabilidade baix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ex situ: probabilidade alta, dano local ou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s órfãos: probabilidade alta (crescente), dano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Algumas Características do Sistema Desej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 Financeiros: do setor privado (transporte e transbordo, depósitos in situ e ex situ) e do setor público (depósitos órfãos). Financiamento Externo em complemento a recursos próprios e de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paração contínua a partir de um centro de referência n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mento (geomático) centralizado e aberto a todos os ní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ção das instalações e das populações sob risco, simultane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ticulação de alto nível e operacional entre IBAMA e 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Alguns Componentes do Siste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Sala de Situação no IBAMA, que “enfeixe” ANA, Petrobrás e outr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lefone Nacional para Emergências Ambientais por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Nacional de Identificação e Atualização de Instalações e Populações sob risco de Emergências com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de Treinamento e Aperfeiçoamento de Agentes e Populações para 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cordos Operacionais entre Agentes do SISNAMA e ANA e outros par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entro de Referência para diagnóstico/tratamento de sítios e populações contaminadas, Fundo de Remediação de Áreas Contaminadas (Superfund/USA), Linha de Financiamento BNDES para passivos ambient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óximos Pas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define prazos e momentos –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organiza seminário com Secretários Estaduais e dirigentes de OEMAs sobr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eminário permite identificar Grupos de Trabalho para implantação do Sistema Nacional d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o Isao Kishinami</cp:lastModifiedBy>
  <dcterms:modified xsi:type="dcterms:W3CDTF">2003-07-10T12:32:41Z</dcterms:modified>
  <cp:revision>14</cp:revision>
  <dc:subject/>
  <dc:title>PowerPoint Presentation</dc:title>
</cp:coreProperties>
</file>